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01A-EF78-450B-BBE9-904D1D43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643-B063-41AA-BD98-11F2740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034-BBE0-4B4B-A90D-50ADFE2A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B0A-C63C-4474-99A3-6811F675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DF7-1C88-4987-8BC6-DD0DA06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F54-B0F3-4519-A5D9-E55E3058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A75-13BE-42A0-B25F-021C790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9B0-A8C1-479F-B7B1-1AE0A74B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2E9-9D0A-4652-80D0-FC0DB99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DF6-84ED-4DA0-BE0B-27A9DD3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5B7-6CA9-4FA2-A2A3-41E3076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11E-4CC1-4373-A044-7C00B78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4DA7-B832-4A21-9FCA-8247AF6E7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.webp"/>
          <p:cNvPicPr/>
          <p:nvPr/>
        </p:nvPicPr>
        <p:blipFill>
          <a:blip r:embed="rId1"/>
          <a:stretch/>
        </p:blipFill>
        <p:spPr>
          <a:xfrm>
            <a:off x="1835280" y="1123920"/>
            <a:ext cx="609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2.webp (1)"/>
          <p:cNvPicPr/>
          <p:nvPr/>
        </p:nvPicPr>
        <p:blipFill>
          <a:blip r:embed="rId1"/>
          <a:stretch/>
        </p:blipFill>
        <p:spPr>
          <a:xfrm>
            <a:off x="1763640" y="836640"/>
            <a:ext cx="6189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" descr="6.webp"/>
          <p:cNvPicPr/>
          <p:nvPr/>
        </p:nvPicPr>
        <p:blipFill>
          <a:blip r:embed="rId1"/>
          <a:stretch/>
        </p:blipFill>
        <p:spPr>
          <a:xfrm>
            <a:off x="1835280" y="1123920"/>
            <a:ext cx="57736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3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4.webp"/>
          <p:cNvPicPr/>
          <p:nvPr/>
        </p:nvPicPr>
        <p:blipFill>
          <a:blip r:embed="rId1"/>
          <a:stretch/>
        </p:blipFill>
        <p:spPr>
          <a:xfrm>
            <a:off x="1979640" y="1339920"/>
            <a:ext cx="55818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6T12:29:40Z</dcterms:created>
  <dc:creator>Administrator</dc:creator>
  <dc:description/>
  <dc:language>en-US</dc:language>
  <cp:lastModifiedBy>卖女柴的小火孩</cp:lastModifiedBy>
  <dcterms:modified xsi:type="dcterms:W3CDTF">2022-05-16T12:29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D8520959DF7426385FFC9AF5D52B734</vt:lpwstr>
  </property>
  <property fmtid="{D5CDD505-2E9C-101B-9397-08002B2CF9AE}" pid="3" name="KSOProductBuildVer">
    <vt:lpwstr>2052-11.1.0.11691</vt:lpwstr>
  </property>
</Properties>
</file>